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DA-DC67-4D95-BA98-E4864CAF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2D9-4BE5-48E6-B773-3675383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1C9-677A-4988-8CB4-08BD63BB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447-0666-458C-8367-29FC058D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570-3D24-4917-BD9F-C681F84C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092-EDAB-47D4-8349-0E40EC57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B46-4AD3-4F1E-93D4-5352F265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C28-0CD9-4B8F-A0B8-52BD90D3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7FD-3281-4041-B73B-521A249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551-ABDD-4AB6-9135-BEE4B0B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F19-EC09-43CA-ABBF-EA7CF0D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E74-F240-459D-A3DB-F6F01148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A5B-3D71-48EC-AE9F-27D34300A5B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1C4D-9A7D-42AA-9A9B-FAD8B5B1431A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hapter 6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Work and Energy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(continued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5 N cos (3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20.7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: W =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F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= 20.7 N x 1.5 m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.1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from now on, the more accurate formula to find work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 = F cos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force vector and the displacement v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work done on an object by a forc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) = (Force) X (Displac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cting in direction of motion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sitive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cting in opposite dire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tive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erpendicular to motion: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Zer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s any work being done on the food as the waiter carries it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The force is perpendicular to the displac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24200" y="2606760"/>
            <a:ext cx="33256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ctor or Scal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work is calculated by multiplying a force (vector) by displacement (vector), it become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ctor quantity multiplied or divided by a vector quantity makes a scalar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work is a scalar, you don’t need to worry about direction, only whether it’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orces do work on an object, the work done equals the change i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07-06Figure_FIG.jpg"/>
          <p:cNvPicPr/>
          <p:nvPr/>
        </p:nvPicPr>
        <p:blipFill>
          <a:blip r:embed="rId1"/>
          <a:stretch/>
        </p:blipFill>
        <p:spPr>
          <a:xfrm>
            <a:off x="1968480" y="2584440"/>
            <a:ext cx="4483080" cy="2822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527880" y="3390480"/>
            <a:ext cx="0" cy="1422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15360" y="366876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BIG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X (short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4720" y="32036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(small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X (LONG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43280" y="3098520"/>
            <a:ext cx="2946240" cy="1701720"/>
          </a:xfrm>
          <a:prstGeom prst="line">
            <a:avLst/>
          </a:prstGeom>
          <a:ln w="38160">
            <a:solidFill>
              <a:srgbClr val="cc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6400" y="55389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persons do the same work in different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unit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s used to measure work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Joule (J) = 1 N-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ork do you do in lifting a 6 kg bowling ball a distance of 20 meters by pulling up with a force equal to it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nce weight is 60 Newtons, work done on the bal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Work) = (Force) x (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( 60 N ) x ( 20 m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1200 Jo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3040" y="5105520"/>
            <a:ext cx="103500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12160" y="851040"/>
            <a:ext cx="0" cy="477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35840" y="185400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001000" y="4381200"/>
            <a:ext cx="0" cy="711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70160" y="401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Problem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work done by a force at a different angl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480" y="1600200"/>
            <a:ext cx="73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o is pulled backwards by his owner with a force of 25 N in the leash at and angle of 34°.  Fido is pulled back a distance of 1.5 m.  How much work was done by the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44760" y="3616200"/>
            <a:ext cx="4410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nent of force that lies along the same direction of motion is what does the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17840" y="4046040"/>
            <a:ext cx="1897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2760" y="5300640"/>
            <a:ext cx="1928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39639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2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4960" y="5164200"/>
            <a:ext cx="84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62680" y="4842000"/>
            <a:ext cx="5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SD</cp:lastModifiedBy>
  <dcterms:modified xsi:type="dcterms:W3CDTF">2010-02-02T14:55:19Z</dcterms:modified>
  <cp:revision>241</cp:revision>
  <dc:subject/>
  <dc:title>Slide 1</dc:title>
</cp:coreProperties>
</file>